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5CD-3DAE-4631-996F-46173980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E00-FD8F-4309-9D2F-9E69FBBF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311-B110-492C-8DB9-EC023B3E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EC1-FA17-4EFB-83E5-0A098F61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2AB-3287-4A4A-92FF-4C13D2AA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ADC-6CFE-457F-BF47-4F3A9F32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AF4-E0B3-4032-A606-A91E96A1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ECED-9ED9-45ED-BF07-1F19597D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91E1-C4C1-4A26-82B8-75F9050D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B71-23B4-4DB0-8847-F3329B74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716-4B37-4D5B-83AE-FC079679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0A04-6C4B-42D2-B053-610391C9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4C8C6E-FD7E-4981-A004-877CA7F1535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828800"/>
            <a:ext cx="5334120" cy="355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Dźwięk</a:t>
            </a:r>
            <a:endParaRPr b="0" i="1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 przeciwieństwie do stratnych kodeków dźwięku takich jak Vorbis, MP3 i AAC, kodek FLAC nie usuwa żadnych danych ze strumienia audio, dzięki czemu po dekompresji otrzymujemy dźwięk identyczny z pierwowzorem. Format FLAC jest obecnie obsługiwany przez większość oprogramowania służącego do edycji i odtwarzania dźwięku (czasami wymagana jest odpowiednia wtyczk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ode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Urządzenie lub program dekodujący/kodujący strumienie danych w celu zmniejszenia rozmiaru, szybkiej transmisji czy ochrony dan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ykłady kodeków a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ssles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P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onkey'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ptimFR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efinicja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Fala akustyczna rozchodząca się w ośrodku sprężystym lub wrażenie słuchowe wywołane tą fal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Cechy (parametry)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łośność – energia przekazywana przez falę akustyczn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rwa – określana przez kształt fali, różne instrumenty emitują fale o różnych kształt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sokość - częstotliwość drgań źródła dźwię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tęż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ługość f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łaściwości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ale akustyczne odbijają się od ciał stałych. Potrafią się po nich rozchodzi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Rodzaje plików dźwiękow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ormat ten został stworzony w roku 1991 w Niemczech we Fraunhofer-Institut für Integrierte Schaltungen. Przy tworzeniu jego pierwszej implementacji wykorzystywany był m.in. utwór Suzanne Veg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m's Din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w celu dostosowania kompresji do brzmienia ludzkiego głosu. Format używa modelu psychoakustycznego. Pliki w tym formacie mają rozszerzenie .mp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bazuje na formacie RIFF, poszerzając go o informacje o strumieniu audio, takie jak użyty kodek, częstotliwość próbkowania czy ilość kanałów.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podobnie jak RIFF został przewidziany dla komputerów IBM PC, toteż wszystkie zmienne zapisywane są w formacie little endian. Odpowiedniki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dla komputerów Macintosh jest AI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pracowany przez fundację Xiph.org, stworzony by wspierać inicjatywy związane z rozwojem wolnego oprogramowania do kodowania i dekodowania multimedi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lgorytm stratnej kompresji danych dźwiękowych, którego specyfikacja została opublikowana w roku 1997. Format AAC zaprojektowany został jako następca MP3, oferujący lepszą jakość dźwięku przy podobnym rozmiarze da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1:20:40Z</dcterms:created>
  <dc:creator>Flont</dc:creator>
  <dc:description/>
  <dc:language>en-US</dc:language>
  <cp:lastModifiedBy>Flont</cp:lastModifiedBy>
  <dcterms:modified xsi:type="dcterms:W3CDTF">2009-12-02T23:17:16Z</dcterms:modified>
  <cp:revision>2</cp:revision>
  <dc:subject/>
  <dc:title>Prezentacja programu PowerPoint</dc:title>
</cp:coreProperties>
</file>