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B0C1-26AF-455A-83AD-1C2660476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089A-E9F5-4304-8DB8-63A128A63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D6C5-CA61-4C52-8275-660CCBBA3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2FD8-2212-478C-84A5-916B9715B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E58D-05F6-4B9F-A26A-3B8B97191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175B-072D-425F-9083-1CB74C3D2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81F4-46A2-4376-B4E4-EDD4967E1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EFB6-C37A-4872-9D83-74AE66572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4E50-6208-4F3B-B41A-04C57BE7B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4FA7-C153-4E4B-861A-427C51A4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FB4F-1111-40AB-A37C-B98932F9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749E-5697-48D4-88B7-86B51AE1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62BB5BD-4C26-46F8-A7EB-DE804C2624FC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828800" y="1828800"/>
            <a:ext cx="5334120" cy="3556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1" strike="noStrike">
                <a:ln w="3168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Bookman Old Style"/>
              </a:rPr>
              <a:t>Dźwięk</a:t>
            </a:r>
            <a:endParaRPr b="0" i="1" lang="en-US" sz="2400" spc="1" strike="noStrike">
              <a:ln w="3168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000000"/>
                </a:outerShdw>
              </a:effectLst>
              <a:latin typeface="Bookman Old Style"/>
              <a:ea typeface="Bookman Old Styl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FL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 przeciwieństwie do stratnych kodeków dźwięku takich jak Vorbis, MP3 i AAC, kodek FLAC nie usuwa żadnych danych ze strumienia audio, dzięki czemu po dekompresji otrzymujemy dźwięk identyczny z pierwowzorem. Format FLAC jest obecnie obsługiwany przez większość oprogramowania służącego do edycji i odtwarzania dźwięku (czasami wymagana jest odpowiednia wtyczk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Kodek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Urządzenie lub program dekodujący/kodujący strumienie danych w celu zmniejszenia rozmiaru, szybkiej transmisji czy ochrony dany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Przykłady kodeków aud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FL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Lossless Au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LP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Monkey's Au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OptimFR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Definicja dźwięk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Book Antiqua"/>
              </a:rPr>
              <a:t>Fala akustyczna rozchodząca się w ośrodku sprężystym lub wrażenie słuchowe wywołane tą fal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Cechy (parametry) dźwięk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łośność – energia przekazywana przez falę akustyczn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Barwa – określana przez kształt fali, różne instrumenty emitują fale o różnych kształt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ysokość - częstotliwość drgań źródła dźwię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atęże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Długość f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Właściwości dźwięk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Fale akustyczne odbijają się od ciał stałych. Potrafią się po nich rozchodzić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Rodzaje plików dźwiękowy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MP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WA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Og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A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FL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MP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Format ten został stworzony w roku 1991 w Niemczech we Fraunhofer-Institut für Integrierte Schaltungen. Przy tworzeniu jego pierwszej implementacji wykorzystywany był m.in. utwór Suzanne Vegi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Tom's Diner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w celu dostosowania kompresji do brzmienia ludzkiego głosu. Format używa modelu psychoakustycznego. Pliki w tym formacie mają rozszerzenie .mp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WA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AV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bazuje na formacie RIFF, poszerzając go o informacje o strumieniu audio, takie jak użyty kodek, częstotliwość próbkowania czy ilość kanałów.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AV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podobnie jak RIFF został przewidziany dla komputerów IBM PC, toteż wszystkie zmienne zapisywane są w formacie little endian. Odpowiednikiem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AV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dla komputerów Macintosh jest AIF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Og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opracowany przez fundację Xiph.org, stworzony by wspierać inicjatywy związane z rozwojem wolnego oprogramowania do kodowania i dekodowania multimedió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A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lgorytm stratnej kompresji danych dźwiękowych, którego specyfikacja została opublikowana w roku 1997. Format AAC zaprojektowany został jako następca MP3, oferujący lepszą jakość dźwięku przy podobnym rozmiarze dany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21:20:40Z</dcterms:created>
  <dc:creator>Flont</dc:creator>
  <dc:description/>
  <dc:language>en-US</dc:language>
  <cp:lastModifiedBy>Flont</cp:lastModifiedBy>
  <dcterms:modified xsi:type="dcterms:W3CDTF">2009-12-02T23:17:16Z</dcterms:modified>
  <cp:revision>2</cp:revision>
  <dc:subject/>
  <dc:title>Prezentacja programu PowerPoint</dc:title>
</cp:coreProperties>
</file>