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4132-71BA-49BF-A37E-6DEB082A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986-C224-48B3-878D-4798B909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6AE6-CF09-4748-BE9B-ADC7CB29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364-720F-4495-B234-38B697DC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807-28CA-49BD-AEB4-D5D5BA6F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B10-F07A-4595-9FDF-4BCAAE21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053D-4136-4D54-B234-D9394F6E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120-8437-48BE-8A61-E11E9AB6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0E46-31B3-45A5-830B-946ECCC1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DC2A-82A8-4FB2-B936-6382B19D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6F7-AAFE-4F12-863B-349FABCC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846-9105-47DB-B03E-B1FB2EAE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53CDD7-3379-4872-93FE-D892E8D671A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1828800"/>
            <a:ext cx="5334120" cy="3556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Dźwięk</a:t>
            </a:r>
            <a:endParaRPr b="0" i="1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 przeciwieństwie do stratnych kodeków dźwięku takich jak Vorbis, MP3 i AAC, kodek FLAC nie usuwa żadnych danych ze strumienia audio, dzięki czemu po dekompresji otrzymujemy dźwięk identyczny z pierwowzorem. Format FLAC jest obecnie obsługiwany przez większość oprogramowania służącego do edycji i odtwarzania dźwięku (czasami wymagana jest odpowiednia wtyczk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Kode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Urządzenie lub program dekodujący/kodujący strumienie danych w celu zmniejszenia rozmiaru, szybkiej transmisji czy ochrony dan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zykłady kodeków a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ssles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P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onkey'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ptimFR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efinicja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Fala akustyczna rozchodząca się w ośrodku sprężystym lub wrażenie słuchowe wywołane tą fal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Cechy (parametry)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łośność – energia przekazywana przez falę akustyczn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arwa – określana przez kształt fali, różne instrumenty emitują fale o różnych kształt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ysokość - częstotliwość drgań źródła dźwię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tęż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ługość f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łaściwości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ale akustyczne odbijają się od ciał stałych. Potrafią się po nich rozchodzi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Rodzaje plików dźwiękow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ormat ten został stworzony w roku 1991 w Niemczech we Fraunhofer-Institut für Integrierte Schaltungen. Przy tworzeniu jego pierwszej implementacji wykorzystywany był m.in. utwór Suzanne Veg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om's Din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w celu dostosowania kompresji do brzmienia ludzkiego głosu. Format używa modelu psychoakustycznego. Pliki w tym formacie mają rozszerzenie .mp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bazuje na formacie RIFF, poszerzając go o informacje o strumieniu audio, takie jak użyty kodek, częstotliwość próbkowania czy ilość kanałów.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podobnie jak RIFF został przewidziany dla komputerów IBM PC, toteż wszystkie zmienne zapisywane są w formacie little endian. Odpowiedniki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dla komputerów Macintosh jest AI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pracowany przez fundację Xiph.org, stworzony by wspierać inicjatywy związane z rozwojem wolnego oprogramowania do kodowania i dekodowania multimedi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lgorytm stratnej kompresji danych dźwiękowych, którego specyfikacja została opublikowana w roku 1997. Format AAC zaprojektowany został jako następca MP3, oferujący lepszą jakość dźwięku przy podobnym rozmiarze da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21:20:40Z</dcterms:created>
  <dc:creator>Flont</dc:creator>
  <dc:description/>
  <dc:language>en-US</dc:language>
  <cp:lastModifiedBy>Flont</cp:lastModifiedBy>
  <dcterms:modified xsi:type="dcterms:W3CDTF">2009-12-02T23:17:16Z</dcterms:modified>
  <cp:revision>2</cp:revision>
  <dc:subject/>
  <dc:title>Prezentacja programu PowerPoint</dc:title>
</cp:coreProperties>
</file>