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E3059-E6D4-46E8-89D7-A1D1D073B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2C1C8-AF7C-4CA9-825D-0B55000BB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7A5DA-7E05-4B05-B32D-FEC54599C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7E146-3799-4E76-9754-4D23A38C7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96855-5A6A-437A-BFB0-01D978735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43CD2-0AF5-48B8-A133-1D88E5658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F86B5-8B56-4CA2-AE7A-988E11AE5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A4211-FBFE-4A8D-8F0E-7EE229ABB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63680"/>
            <a:ext cx="77709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F9DCE-57AE-45E4-AF62-BCD20B833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EE042-A4F6-4AEE-B7E2-4D76F2F31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9A978-35E0-4B78-83A8-B51E02AE3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009AA-9813-42B7-B37D-42CEBA034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3810b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CB60BEB-7616-4107-A150-1F81B7528995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3810b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828800" y="1828800"/>
            <a:ext cx="5334120" cy="35560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1" strike="noStrike">
                <a:ln w="3168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000000"/>
                  </a:outerShdw>
                </a:effectLst>
                <a:latin typeface="Bookman Old Style"/>
              </a:rPr>
              <a:t>Dźwięk</a:t>
            </a:r>
            <a:endParaRPr b="0" i="1" lang="en-US" sz="2400" spc="1" strike="noStrike">
              <a:ln w="3168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000000"/>
                </a:outerShdw>
              </a:effectLst>
              <a:latin typeface="Bookman Old Style"/>
              <a:ea typeface="Bookman Old Style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3810b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507600"/>
            <a:ext cx="777240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FLA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W przeciwieństwie do stratnych kodeków dźwięku takich jak Vorbis, MP3 i AAC, kodek FLAC nie usuwa żadnych danych ze strumienia audio, dzięki czemu po dekompresji otrzymujemy dźwięk identyczny z pierwowzorem. Format FLAC jest obecnie obsługiwany przez większość oprogramowania służącego do edycji i odtwarzania dźwięku (czasami wymagana jest odpowiednia wtyczka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3810b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Kodek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Urządzenie lub program dekodujący/kodujący strumienie danych w celu zmniejszenia rozmiaru, szybkiej transmisji czy ochrony danyc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3810b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507600"/>
            <a:ext cx="777240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Przykłady kodeków aud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FL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Lossless Aud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LP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Monkey's Aud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OptimFRO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3810b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Definicja dźwięk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0" lang="pl-PL" sz="2400" spc="-1" strike="noStrike">
                <a:solidFill>
                  <a:srgbClr val="000000"/>
                </a:solidFill>
                <a:latin typeface="Book Antiqua"/>
              </a:rPr>
              <a:t>Fala akustyczna rozchodząca się w ośrodku sprężystym lub wrażenie słuchowe wywołane tą falą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3810b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Cechy (parametry) dźwięk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Głośność – energia przekazywana przez falę akustyczn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Barwa – określana przez kształt fali, różne instrumenty emitują fale o różnych kształta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Wysokość - częstotliwość drgań źródła dźwięk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Natężen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Długość fal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3810b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Właściwości dźwięk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Fale akustyczne odbijają się od ciał stałych. Potrafią się po nich rozchodzić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3810b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Rodzaje plików dźwiękowy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MP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WA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Og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A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FL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3810b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07600"/>
            <a:ext cx="777240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MP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Format ten został stworzony w roku 1991 w Niemczech we Fraunhofer-Institut für Integrierte Schaltungen. Przy tworzeniu jego pierwszej implementacji wykorzystywany był m.in. utwór Suzanne Vegi </a:t>
            </a:r>
            <a:r>
              <a:rPr b="0" i="1" lang="pl-PL" sz="2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Tom's Diner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w celu dostosowania kompresji do brzmienia ludzkiego głosu. Format używa modelu psychoakustycznego. Pliki w tym formacie mają rozszerzenie .mp3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3810b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507600"/>
            <a:ext cx="777240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WAV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WAVE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bazuje na formacie RIFF, poszerzając go o informacje o strumieniu audio, takie jak użyty kodek, częstotliwość próbkowania czy ilość kanałów. 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WAV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podobnie jak RIFF został przewidziany dla komputerów IBM PC, toteż wszystkie zmienne zapisywane są w formacie little endian. Odpowiednikiem 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WAV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dla komputerów Macintosh jest AIFF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3810b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07600"/>
            <a:ext cx="777240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Og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opracowany przez fundację Xiph.org, stworzony by wspierać inicjatywy związane z rozwojem wolnego oprogramowania do kodowania i dekodowania multimediów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3810b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507600"/>
            <a:ext cx="777240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AA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algorytm stratnej kompresji danych dźwiękowych, którego specyfikacja została opublikowana w roku 1997. Format AAC zaprojektowany został jako następca MP3, oferujący lepszą jakość dźwięku przy podobnym rozmiarze danych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2T21:20:40Z</dcterms:created>
  <dc:creator>Flont</dc:creator>
  <dc:description/>
  <dc:language>en-US</dc:language>
  <cp:lastModifiedBy>Flont</cp:lastModifiedBy>
  <dcterms:modified xsi:type="dcterms:W3CDTF">2009-12-02T23:17:16Z</dcterms:modified>
  <cp:revision>2</cp:revision>
  <dc:subject/>
  <dc:title>Prezentacja programu PowerPoint</dc:title>
</cp:coreProperties>
</file>