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0645-9112-41EB-9D07-2FB8A7495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92F1-E526-415B-A9CF-0F9CCB5B9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21B4-C3C9-4209-84A9-7E2D2CD9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E169-11D3-4F4B-9031-B5E409BE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EA2B-FC14-463B-89CF-F4B12C33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3C30-9384-4513-BFA4-AE1C65FF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5A03-A76D-4BCF-8546-01831E55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20D0-554E-4B94-811C-905E1CF8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7154-6CAF-4864-BC3F-E2D4515A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EE37-1B82-40AD-8B49-B4A3B38B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049F-821B-4C48-B96F-D8D86CA9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7A0-3856-4F8A-BEE3-C8A8AE08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AC8802-A641-42FA-AE90-C7BBEB0DF058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1828800"/>
            <a:ext cx="5334120" cy="3556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1" strike="noStrike">
                <a:ln w="316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Bookman Old Style"/>
              </a:rPr>
              <a:t>Dźwięk</a:t>
            </a:r>
            <a:endParaRPr b="0" i="1" lang="en-US" sz="2400" spc="1" strike="noStrike">
              <a:ln w="3168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Bookman Old Style"/>
              <a:ea typeface="Bookman Old Style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 przeciwieństwie do stratnych kodeków dźwięku takich jak Vorbis, MP3 i AAC, kodek FLAC nie usuwa żadnych danych ze strumienia audio, dzięki czemu po dekompresji otrzymujemy dźwięk identyczny z pierwowzorem. Format FLAC jest obecnie obsługiwany przez większość oprogramowania służącego do edycji i odtwarzania dźwięku (czasami wymagana jest odpowiednia wtyczk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Kodek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Urządzenie lub program dekodujący/kodujący strumienie danych w celu zmniejszenia rozmiaru, szybkiej transmisji czy ochrony dany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Przykłady kodeków au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ossless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LP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onkey's Aud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ptimFRO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Definicja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Book Antiqua"/>
              </a:rPr>
              <a:t>Fala akustyczna rozchodząca się w ośrodku sprężystym lub wrażenie słuchowe wywołane tą fal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Cechy (parametry)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Głośność – energia przekazywana przez falę akustyczn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Barwa – określana przez kształt fali, różne instrumenty emitują fale o różnych kształt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ysokość - częstotliwość drgań źródła dźwięk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Natęże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Długość f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łaściwości dźwięk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ale akustyczne odbijają się od ciał stałych. Potrafią się po nich rozchodzić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Rodzaje plików dźwiękowy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MP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WA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Og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A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FL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MP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Format ten został stworzony w roku 1991 w Niemczech we Fraunhofer-Institut für Integrierte Schaltungen. Przy tworzeniu jego pierwszej implementacji wykorzystywany był m.in. utwór Suzanne Vegi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Tom's Diner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w celu dostosowania kompresji do brzmienia ludzkiego głosu. Format używa modelu psychoakustycznego. Pliki w tym formacie mają rozszerzenie .mp3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WA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bazuje na formacie RIFF, poszerzając go o informacje o strumieniu audio, takie jak użyty kodek, częstotliwość próbkowania czy ilość kanałów.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podobnie jak RIFF został przewidziany dla komputerów IBM PC, toteż wszystkie zmienne zapisywane są w formacie little endian. Odpowiednikiem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WAV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dla komputerów Macintosh jest AIF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Og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opracowany przez fundację Xiph.org, stworzony by wspierać inicjatywy związane z rozwojem wolnego oprogramowania do kodowania i dekodowania multimedi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3810b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07600"/>
            <a:ext cx="77724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Times New Roman"/>
              </a:rPr>
              <a:t>AA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algorytm stratnej kompresji danych dźwiękowych, którego specyfikacja została opublikowana w roku 1997. Format AAC zaprojektowany został jako następca MP3, oferujący lepszą jakość dźwięku przy podobnym rozmiarze dany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21:20:40Z</dcterms:created>
  <dc:creator>Flont</dc:creator>
  <dc:description/>
  <dc:language>en-US</dc:language>
  <cp:lastModifiedBy>Flont</cp:lastModifiedBy>
  <dcterms:modified xsi:type="dcterms:W3CDTF">2009-12-02T23:17:16Z</dcterms:modified>
  <cp:revision>2</cp:revision>
  <dc:subject/>
  <dc:title>Prezentacja programu PowerPoint</dc:title>
</cp:coreProperties>
</file>